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948D-245C-4960-99FE-84182D83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8934-2531-4063-BD97-24A0ECC3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6508-4E4B-47E1-BFD6-3D120A02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DA8-001B-473F-A73E-E438C844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98D57-E704-4618-A525-DA198B31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A8ABB-0D5F-4BA9-868D-C0FA3FCE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3A5AA-7B2E-4DE8-B6B5-8630BAF1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CBE5D-4FAA-45FE-BD7F-917463F0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3995F-7CDF-4206-B480-5F35133D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AEB90-2F6B-4C8A-9A68-46BB352D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4D953-21B8-4211-9B84-D4F07AA0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975-10B3-4580-B040-F4A47B61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F18A4-5E23-4733-AD99-762B659F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A9575-592F-47F3-AC78-889474A7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C05CB-AF88-48E0-AE53-B5F0AE14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EF5E3-EF3F-4C22-AB13-0972B6EC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155E8-93EA-4570-9FF7-DECA7934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9D0C6-04E3-4CE4-BAB2-3A2F2D6C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CDF14-FE83-403C-9B1C-D87A3968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EADCC-189D-49C2-A291-F1D2B258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A860C-C0A2-4AB5-92DE-3B5D07BF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990F2-C9E2-464A-97F7-213D75C2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6895-BAB0-4558-B3B8-9C6E4E06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4865D-67F4-4CA8-A013-3B9AD16C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56C12-2C64-4244-B4E5-A46D1E68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262F8-1B9A-4CC9-BB98-FC1A2157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F6415-612B-4284-95C9-6B990246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9EC58-7204-485E-9912-B9F52118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A4A3C-BEFD-4154-AE79-7D6E5906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36210-161A-4FC3-8517-6DC0E7B3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F5263-88E6-4231-89DD-6B8B1650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0F57C-3A5A-4A01-944A-E20B0776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188B2-AC65-458C-BBE9-C5F5AA2D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F84B-722E-4B2F-860A-F0621EBB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03676-70A2-4620-91CF-F9CC0CED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637F7-7266-4BED-93FE-BADED4F1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F960F-F474-46C2-B043-36AD2133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5E185-5AFE-43B3-9C25-D1CE7A8B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11787-407A-438A-9BF0-FAB28E54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6EC3E-EB09-426A-8410-820EC255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B3F45-9ED0-4566-9C90-BAC907E0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102D7-49CF-40FA-9843-FD97A4EA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B8D8A-8C99-47DF-9DB0-14DC81A3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54AA6-A0BF-46CF-B4A9-DAC92760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D48-6363-480A-9275-28A8578D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0F067-E90E-45FD-8C0C-74337BAE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9ED05-8FC7-4FC1-9883-483D528B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4D343-00E1-4666-8D81-3063D771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B423A-C5D0-494A-BA46-C66C1D32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0247F-4FEB-4F55-A994-5CEF21AC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471D6-CCA1-4421-B5F9-3CCCE260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E13BE-DDA3-4DFD-B486-D8ABC303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3A913-60B5-484B-A4F5-3BD9EEB1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B0BBB-C4C7-4C25-B824-E13485A4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4D926-25DA-46F5-A31D-894701A2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E06-AF44-428A-A823-898B6FB7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3D178-DDDD-4221-AEC3-4F5318AA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E0456-7F6F-4AB2-AE70-7017EAD4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DCF69-F836-4CD4-BD93-3B4AC038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75287-AC67-4164-8B76-1A20AF52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3A1DE-04A3-4781-A559-7965BA38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0C8DD-6AD8-4389-AD30-A97C6928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74709-FE4B-4D40-B411-F4E20CF0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27B91-DB51-4A2F-A8FD-14ADD681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F0040-E1B9-4195-97AF-92685251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B3DEF-7903-4BFD-BBAD-2595530B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F39-E56C-490E-86C5-B3A86FB5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49A9F-B0B1-4393-B2C3-E16478A0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03125-EDC6-48EB-B56E-15A071C0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A7CD8-731A-458E-8D77-E4DEBBCE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3E04D-2746-4E5B-A6BF-58F232FE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65ED3-16E2-492B-AB4F-F1AACAEE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CFA25-48BA-4EF6-8A5E-C28B44D6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0A8BC-3D45-4681-8A15-E47C4230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41AAC-5D95-4AF2-81F1-5CAE4182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F36CE-F86F-4F11-9575-2FA0A4B6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48E7B-FF89-479E-95A4-55109EE2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E652-8FD8-4FF6-A4F2-2D35BFE5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00FD6-F05E-4978-84CE-A1478DBF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D3C1F-9D52-48CC-94B9-88BA3033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763C4-9A6F-46C6-9FFF-7814F915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35AC7-5FE6-41F2-B9CE-57EBDC91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C53D7-1EA8-4112-88D0-8154B0DB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036-921E-4072-9E49-E16DD518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CC96-D5AE-45E7-B4C3-DBC81C0EC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D134-4042-4F1C-A99A-C1ECA57E111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A9A6-DA63-4882-BC0D-7DF0733DE93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E34D-5D70-48A5-B781-F6A4C39A5A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F163-CE11-4D22-96A4-F535B0D716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2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3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3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A727-E923-4474-9C02-CDEB7D5D40E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0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0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1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3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3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4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4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5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5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6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8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8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8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8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9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9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9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0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0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0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1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1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1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2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DC7D-26EA-47BD-B424-8955856323C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7.WAV" TargetMode="External"/><Relationship Id="rId2" Type="http://schemas.microsoft.com/office/2007/relationships/media" Target="file:///tmp/home/.config/libreoffice/4/user/gallery/~PP17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124.WAV" TargetMode="External"/><Relationship Id="rId2" Type="http://schemas.microsoft.com/office/2007/relationships/media" Target="file:///tmp/home/.config/libreoffice/4/user/gallery/~PP2124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4057.WAV" TargetMode="External"/><Relationship Id="rId2" Type="http://schemas.microsoft.com/office/2007/relationships/media" Target="file:///tmp/home/.config/libreoffice/4/user/gallery/~PP4057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271.WAV" TargetMode="External"/><Relationship Id="rId2" Type="http://schemas.microsoft.com/office/2007/relationships/media" Target="file:///tmp/home/.config/libreoffice/4/user/gallery/~PP2271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641.WAV" TargetMode="External"/><Relationship Id="rId2" Type="http://schemas.microsoft.com/office/2007/relationships/media" Target="file:///tmp/home/.config/libreoffice/4/user/gallery/~PP641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141.WAV" TargetMode="External"/><Relationship Id="rId2" Type="http://schemas.microsoft.com/office/2007/relationships/media" Target="file:///tmp/home/.config/libreoffice/4/user/gallery/~PP1141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~PP3669.WAV" TargetMode="External"/><Relationship Id="rId3" Type="http://schemas.microsoft.com/office/2007/relationships/media" Target="file:///tmp/home/.config/libreoffice/4/user/gallery/~PP3669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~PP24.WAV" TargetMode="External"/><Relationship Id="rId3" Type="http://schemas.microsoft.com/office/2007/relationships/media" Target="file:///tmp/home/.config/libreoffice/4/user/gallery/~PP24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file:///tmp/home/.config/libreoffice/4/user/gallery/~PP2241.WAV" TargetMode="External"/><Relationship Id="rId5" Type="http://schemas.microsoft.com/office/2007/relationships/media" Target="file:///tmp/home/.config/libreoffice/4/user/gallery/~PP2241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file:///tmp/home/.config/libreoffice/4/user/gallery/~PP4035.WAV" TargetMode="External"/><Relationship Id="rId3" Type="http://schemas.microsoft.com/office/2007/relationships/media" Target="file:///tmp/home/.config/libreoffice/4/user/gallery/~PP4035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421.WAV" TargetMode="External"/><Relationship Id="rId2" Type="http://schemas.microsoft.com/office/2007/relationships/media" Target="file:///tmp/home/.config/libreoffice/4/user/gallery/~PP1421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~PP3060.WAV" TargetMode="External"/><Relationship Id="rId3" Type="http://schemas.microsoft.com/office/2007/relationships/media" Target="file:///tmp/home/.config/libreoffice/4/user/gallery/~PP3060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file:///tmp/home/.config/libreoffice/4/user/gallery/~PP3901.WAV" TargetMode="External"/><Relationship Id="rId3" Type="http://schemas.microsoft.com/office/2007/relationships/media" Target="file:///tmp/home/.config/libreoffice/4/user/gallery/~PP3901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303.WAV" TargetMode="External"/><Relationship Id="rId2" Type="http://schemas.microsoft.com/office/2007/relationships/media" Target="file:///tmp/home/.config/libreoffice/4/user/gallery/~PP1303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ein Ferie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n: Max Shey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alle Europa besichtig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4"/>
          <a:stretch/>
        </p:blipFill>
        <p:spPr>
          <a:xfrm>
            <a:off x="685800" y="1143000"/>
            <a:ext cx="7693200" cy="51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0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camping in den berg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4"/>
          <a:stretch/>
        </p:blipFill>
        <p:spPr>
          <a:xfrm>
            <a:off x="609480" y="1295280"/>
            <a:ext cx="7925040" cy="528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4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spanien musik gehor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4"/>
          <a:stretch/>
        </p:blipFill>
        <p:spPr>
          <a:xfrm>
            <a:off x="1600200" y="1295280"/>
            <a:ext cx="6550200" cy="48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8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fussball geseh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1600200" y="1143000"/>
            <a:ext cx="6477120" cy="55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22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ch habe souvenirs gekauf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26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ch habe im ozean geangelt.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72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29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836200" cy="681192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n Europa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759880" cy="654048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m hote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6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038480" cy="232236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324320" cy="242892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3"/>
          <a:stretch/>
        </p:blipFill>
        <p:spPr>
          <a:xfrm>
            <a:off x="2514600" y="3757680"/>
            <a:ext cx="4343400" cy="310032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war in Deutschland, England, und Spaini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836200" cy="66276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in Berg gewander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4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gutes essen gegess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4"/>
          <a:stretch/>
        </p:blipFill>
        <p:spPr>
          <a:xfrm>
            <a:off x="2286000" y="1143000"/>
            <a:ext cx="456084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6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507528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familie besuch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0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838080" y="1228680"/>
            <a:ext cx="7506000" cy="562932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fussball gespiel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7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3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bin im Ozean geschwomm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4"/>
          <a:stretch/>
        </p:blipFill>
        <p:spPr>
          <a:xfrm>
            <a:off x="152280" y="1219320"/>
            <a:ext cx="8610840" cy="50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6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8:08:18Z</dcterms:created>
  <dc:creator>CUSD220</dc:creator>
  <dc:description/>
  <dc:language>en-US</dc:language>
  <cp:lastModifiedBy>CUSD220</cp:lastModifiedBy>
  <dcterms:modified xsi:type="dcterms:W3CDTF">2011-11-16T17:05:34Z</dcterms:modified>
  <cp:revision>5</cp:revision>
  <dc:subject/>
  <dc:title>Mein Ferien</dc:title>
</cp:coreProperties>
</file>